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823-7446-4EF4-9941-DA64EB8B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A6C-983F-467E-828A-940C1C50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F77-DF65-42C0-8691-62ACAA1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6A3-6A72-4241-B11F-C67431DF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B65-FE65-43B6-ABBF-17F5347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4D6-1946-4603-8339-465647D3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AE6-88F4-4C1F-90C8-3FC70A2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C64-A555-4669-A741-01E3851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5B2-F39F-4535-822A-F634A0B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53E-79B1-41A0-AD97-8003A258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116-9CB2-46AA-8770-A50EEA6C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EE9-2CED-43C6-ADFF-DD0B69B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67C-3148-4B6C-8F4F-915B067C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609480"/>
            <a:ext cx="5638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Poor Richard"/>
              </a:rPr>
              <a:t>Legends Of Rock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Poor Richard"/>
              <a:ea typeface="Poor Richar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00200" y="4572000"/>
            <a:ext cx="5572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80's rock legends and icons:p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or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2819520" cy="225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468648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626160" y="38088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28600" y="4686480"/>
            <a:ext cx="1541520" cy="2171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657600" y="304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048120" y="5181480"/>
            <a:ext cx="2657520" cy="192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2060640" cy="19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371600" y="2666880"/>
            <a:ext cx="5257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Lucida Handwriting"/>
              </a:rPr>
              <a:t>THE END :)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5002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y formed in 1977 in Sheffield, Englan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y have sold over 65,000,000 albums and 35,000,000 in the U.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re Most Famous Album is Rock Of Ages, and they just recently released there new album Songs From the Sparkle Lo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562040" cy="15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038400" cy="18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14800" y="1600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905120" y="0"/>
            <a:ext cx="4647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lackadder ITC"/>
              </a:rPr>
              <a:t>Def  Leppard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lackadder ITC"/>
              <a:ea typeface="Blackadder ITC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MS Mincho"/>
              </a:rPr>
              <a:t>They were Formed in 1981 in Las Angeles Califor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MS Mincho"/>
              </a:rPr>
              <a:t>Nikki Sixx and Tommy Lee are the founders of the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MS Mincho"/>
              </a:rPr>
              <a:t>There one most famous and popular song is Dr.Feel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48480" y="1371600"/>
            <a:ext cx="2495520" cy="167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2381400" cy="23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5400000">
            <a:off x="-2857320" y="308592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ookman Old Style"/>
              </a:rPr>
              <a:t>Motley Crue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igh Tower Tex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lbertus"/>
              </a:rPr>
              <a:t>From Hollywood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lbertus"/>
              </a:rPr>
              <a:t>The song Heaven Reached #2 on the charts a week</a:t>
            </a:r>
            <a:r>
              <a:rPr b="0" lang="en-US" sz="2400" spc="-1" strike="noStrike">
                <a:solidFill>
                  <a:srgbClr val="00cc00"/>
                </a:solidFill>
                <a:latin typeface="Albert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lbertus"/>
              </a:rPr>
              <a:t>after it was rel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"/>
              </a:rPr>
              <a:t>There most Famous song ever written was “Cherry P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0" y="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Warrant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5418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Bradley Hand ITC"/>
              </a:rPr>
              <a:t>They Were Formed in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Bradley Hand ITC"/>
              </a:rPr>
              <a:t>They have sold more then 200 million</a:t>
            </a:r>
            <a:r>
              <a:rPr b="0" lang="en-US" sz="2800" spc="-1" strike="noStrike">
                <a:solidFill>
                  <a:srgbClr val="ff0066"/>
                </a:solidFill>
                <a:latin typeface="Bradley Hand ITC"/>
              </a:rPr>
              <a:t> </a:t>
            </a:r>
            <a:r>
              <a:rPr b="0" lang="en-US" sz="2800" spc="-1" strike="noStrike">
                <a:solidFill>
                  <a:srgbClr val="ff99cc"/>
                </a:solidFill>
                <a:latin typeface="Bradley Hand ITC"/>
              </a:rPr>
              <a:t>albums worldwi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cc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cc"/>
                </a:solidFill>
                <a:latin typeface="Bradley Hand ITC"/>
              </a:rPr>
              <a:t>There best selling album was Black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04480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495680" y="0"/>
            <a:ext cx="3886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rlow Solid Italic"/>
              </a:rPr>
              <a:t>AC/DC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tique Olive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lbertus"/>
              </a:rPr>
              <a:t>There one most famous (still is) song is “More Then a Fellin” and “Don’t Stop Believe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lbertus"/>
              </a:rPr>
              <a:t>They are not quite as Famous as AC/DC,Def Leppard etc.. But they have sold over 50 million albu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lbertus"/>
              </a:rPr>
              <a:t>In 1995ish the band decided to break up and are no longer making 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124080" cy="2781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133720" y="228600"/>
            <a:ext cx="5562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Rockwell"/>
              </a:rPr>
              <a:t>Boston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Rockwell"/>
              <a:ea typeface="Rockwel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is band is more of a heavy metal rock but still insanely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ere most popular song and still is today is Enter Sand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igh Tower Text"/>
              </a:rPr>
              <a:t>They have released 9 studio albums, 45 singles, and 24 music vide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5400000">
            <a:off x="-2667240" y="297180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Metallica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Broadway"/>
              </a:rPr>
              <a:t>They were formed in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80808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Broadway"/>
              </a:rPr>
              <a:t>There 1987 album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 Appetite for Destruction was there # hit e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And there #1 song is Paradise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96000" y="10666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4348080"/>
            <a:ext cx="375264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2120" y="-228600"/>
            <a:ext cx="617220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ll Sans Ultra Bold"/>
              </a:rPr>
              <a:t>Guns &amp; Ros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ll Sans Ultra Bold"/>
              <a:ea typeface="Gill Sans Ultra Bold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SimSun"/>
              </a:rPr>
              <a:t>They were formed in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SimSun"/>
              </a:rPr>
              <a:t>Long Cold Winter hit #3 on the album charts a month l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SimSun"/>
              </a:rPr>
              <a:t>They are heard to be releasing a new album Rock Never Stop in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2352600" cy="1820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4920" y="4629240"/>
            <a:ext cx="2266920" cy="22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5400000">
            <a:off x="5081400" y="2690640"/>
            <a:ext cx="6553080" cy="11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Cinderella</a:t>
            </a:r>
            <a:endParaRPr b="0" lang="en-US" sz="4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45:20Z</dcterms:created>
  <dc:creator>JEFFCO</dc:creator>
  <dc:description/>
  <dc:language>en-US</dc:language>
  <cp:lastModifiedBy>JEFFCO</cp:lastModifiedBy>
  <dcterms:modified xsi:type="dcterms:W3CDTF">2009-10-19T18:48:38Z</dcterms:modified>
  <cp:revision>4</cp:revision>
  <dc:subject/>
  <dc:title>Lets get Rocked </dc:title>
</cp:coreProperties>
</file>